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ED3-D092-4768-89C8-079F8B74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A02-6A47-4D5C-9C30-5C0C95DD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EA7-D4C1-49B2-9411-5597C5BF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EEF-AED1-4C9F-B859-0FF22C53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B3F5-5CB7-454D-ACD5-83EAB540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EFCE-CF18-4F0C-A4E8-491E717B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4E8F-B6D9-400C-9F2A-BFB22823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3523-BC05-465B-9D2D-E529825D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244C-CE70-46D3-8E13-7E9D4510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C45A-C54A-49B4-B560-FF39A894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0E3B-DF9E-4D5E-BC25-6D99C317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428-9D67-47C7-97C5-0CB2B639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2BD6-165C-44EE-8AC9-4B1A822F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C3D7-90C6-4C33-9FEE-FF000FB9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398A-D53D-42F2-A0D0-CDB74591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147D-19CA-4478-8629-D3B1C4C2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4A3B-8F8C-4B66-902B-9ED6A053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6FD-4FF3-4EA5-9F02-3E780746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34E-C7DD-4C76-8C50-F6301837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93D-0B91-4548-B49B-21D7BE3C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813-2F3A-47AA-8F4F-F8570E99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979-E021-42D8-B2E6-3C6D001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533-95CD-423F-86C9-698E4196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45E-2228-493C-91C9-3405259E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5BA40-677F-43A2-8C65-C1ED370760A8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B459E-0CD0-414C-A98F-30EC4DEAB72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885BF-2C16-4846-8544-5AB25FE141E5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7BF12-43A0-430A-8186-20E5E88AD07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560520"/>
            <a:ext cx="8242200" cy="2847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812-182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730080" y="660240"/>
            <a:ext cx="74455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howed other nations around the world that America would defend its beliefs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ightened nationalis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my and navy were expanded and the Bank of the United States was revived by Congress in 1816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4417920" y="4186080"/>
            <a:ext cx="32781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57200" y="1047600"/>
            <a:ext cx="81154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hat are some examples of nationalism following the War of 1812?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riff of 18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nry Cla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ree main par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rong banking system: easy &amp; abundant credi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tective tariff: eastern manufacturing flouri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twork of roads &amp; can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ie Canal- completed by New York in 182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d not receive federal mone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5" descr="288px-Lockport_bartlett_color_crop"/>
          <p:cNvPicPr/>
          <p:nvPr/>
        </p:nvPicPr>
        <p:blipFill>
          <a:blip r:embed="rId3"/>
          <a:stretch/>
        </p:blipFill>
        <p:spPr>
          <a:xfrm>
            <a:off x="6227640" y="4902120"/>
            <a:ext cx="24591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Strict Constructionis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Interpreting the constitution literally, exactly as 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s: Jefferson, Madis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Loose Constructionis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a broad interpretation of the constit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s: Federalists (Hamilton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ames Monroe- elected president in 18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st of founding fath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st of Virginia dynas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a of Good Feeling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 political parties getting alo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snomer; issue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ariff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ank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nal improvements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tionalis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laver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Picture 5" descr="220px-Jm5"/>
          <p:cNvPicPr/>
          <p:nvPr/>
        </p:nvPicPr>
        <p:blipFill>
          <a:blip r:embed="rId3"/>
          <a:stretch/>
        </p:blipFill>
        <p:spPr>
          <a:xfrm>
            <a:off x="7048440" y="4334040"/>
            <a:ext cx="20955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rst national financial panic since Washingt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flation, depression, bankruptcies, bank fail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speculation of frontier land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ffec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nancial paraly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nk of the US forced western banks to clos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eclosed mortgages on far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or classes in severe troubl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tween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1791 and 1819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states from the West had joined the United States. 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ternately as free/slav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ople moved b/c of cheap la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he 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Land Act of 1820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uthorized a buyer to purchase 80 acres at a minimum of $1.25 an acre. 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5" descr="banner_westwardexpansion"/>
          <p:cNvPicPr/>
          <p:nvPr/>
        </p:nvPicPr>
        <p:blipFill>
          <a:blip r:embed="rId3"/>
          <a:stretch/>
        </p:blipFill>
        <p:spPr>
          <a:xfrm>
            <a:off x="3332160" y="5394240"/>
            <a:ext cx="35323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allmadge Amendm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called for no more slaves to be brought into Missouri &amp; gradual emancipation of children born to slave par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ter defeated by the slave states in Congres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5" descr="150px-James_Tallmadge_portrait"/>
          <p:cNvPicPr/>
          <p:nvPr/>
        </p:nvPicPr>
        <p:blipFill>
          <a:blip r:embed="rId3"/>
          <a:stretch/>
        </p:blipFill>
        <p:spPr>
          <a:xfrm>
            <a:off x="3305160" y="3611520"/>
            <a:ext cx="23446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my ill-trained &amp; ill-disciplin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fensive strategy against Canad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ied to invade from Niagara, Detroit and Lake Champlai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ish &amp; Canadians were energetic &amp; powerfu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mericans were more successful attacking by se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liver Hazard Perry- captured a British fleet in Lake Eri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onstitutio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enry Cla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mit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issouri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as a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 slave stat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1820.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ain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 to be admitted as a separate,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free st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2 slave states &amp; 12 free stat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he 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Missouri Compromi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by Congress forbade slavery in the remaining territories in the Louisiana Territory north of the line of 36° 30', except for Missour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ief Justic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Cohens 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vs. 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Virginia</a:t>
            </a: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(1821)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hens appealed to Supreme Court for being found guilty of illegally selling lottery tickets by the state of Virginia. 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Virginia w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 (conviction was withheld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Fletcher 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vs. 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Peck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(1810)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Georgia legislature granted 35 million acres to private speculators; the next legislature cancelled the bribery-induced transaction. 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et state give acres to private speculators (a contract and constitutional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tected property rights against popular pressur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5" descr="220px-John_Marshall_by_Henry_Inman,_1832"/>
          <p:cNvPicPr/>
          <p:nvPr/>
        </p:nvPicPr>
        <p:blipFill>
          <a:blip r:embed="rId3"/>
          <a:stretch/>
        </p:blipFill>
        <p:spPr>
          <a:xfrm>
            <a:off x="7361280" y="0"/>
            <a:ext cx="17827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John Quincy Adam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secretary of state under Monro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reaty of 1818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permitted Americans to share Newfoundland fisheries w/ Canadi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-year joint occupation of Oregon Country w/o  a surrender of rights or claims of America or Britai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2671920" y="4444920"/>
            <a:ext cx="356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volutions in South Ameri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ain forced to take many of its troops out of Florid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neral Andrew Jackson went to Florida to punish Indi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ptured St. Marks and Pensacola  (2 most important Spanish posts in the area)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he Florida Purchase Treaty of 1819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Spain ceded Florida, as well as Spanish claims to Oregon, in exchange for America's abandonment of claims to Texa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poleon falls from power in 1815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uropeans wanted to completely eliminate democrac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George Cann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British foreign secret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oint declaration renouncing any interest in acquiring Latin American territor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rn European dictators to keep their hands off Latin American republic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retary Adams thought British feared that Americans would seize Spanish territory in the Americas; jeopardizing Britain's possessions in the Caribbea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Monroe Doctrine (1823)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stern warning to the European powers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basic features: non-colonization &amp; noninterven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6661080" y="4081320"/>
            <a:ext cx="24829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nroe stated that the era of colonization in the Americas was o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nroe also warned against foreign interven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rned Britain to stay out of the Western Hemisphere &amp; stated that the United States would not intervene in foreign wa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uropean powers were offended by Monroe Doctri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sident Monroe was more concerned w/ security of America when he issued the Monroe Doctri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rived off nationalis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6080040" y="3505320"/>
            <a:ext cx="22543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attle of the Tham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General Harrison's army overtook British at Detroit and Fort Mald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homas Macdonough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naval officer who forced the invading British army near Plattsburgh to retreat; saved upper New York from conques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2451240" y="3819600"/>
            <a:ext cx="38448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ish set fire to White House &amp; Capito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ancis Scott K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tained American watching bombardment of Fort McHenry from British shi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r Spangled Banner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457200" y="3963960"/>
            <a:ext cx="3932280" cy="2651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4"/>
          <a:stretch/>
        </p:blipFill>
        <p:spPr>
          <a:xfrm>
            <a:off x="5888160" y="3479760"/>
            <a:ext cx="23652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h, say can you see by the dawn's early ligh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so proudly we hailed at the twilight's last gleaming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ose broad stripes and bright stars thru the perilous fight,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'er the ramparts we watched were so gallantly streaming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d the rocket's red glare, the bombs bursting in air, Gave proof through the night that our flag was still ther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h, say does that star-spangled banner yet wav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'er the land of the free and the home of the brave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8,000 British veterans vs. 7,000 untrained men under Andrew Jacks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ish blunder- frontal assault on entrenched American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uge victory for Jacks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,000 British died very quick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r actually ended two weeks before the batt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ackson emerges as a national her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sar Alexander I of Russia calls for peace between Americans &amp; British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hent, Belgiu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mist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quered territory restor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mention of Indians, Orders in Council, Impressment, et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mericans did not manage to defeat Briti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t One Inch of Territory Lost or Gained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England remained a probl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spered during conflic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osed secession from The Union or at least a separate peace with Britai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rtford Convent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Hartford resolutions marked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death of the Federalist party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assachusetts, Connecticut, and Rhode Island met for a secret meeting to discuss their disgust of the wa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Hartford Convention's final report demanded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nancial assistance from Washington to compensate for lost trade from embargo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nstitutional amendments requiring a 2/3 vote in Congress before an embargo could be imposed, new states admitted, or war declared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abolition of slaver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at a President could only serve 1 term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abolition of the 3/5 claus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prohibition of the election of 2 successive Presidents from the same stat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20:08:00Z</dcterms:created>
  <dc:creator>Emily Johnson</dc:creator>
  <dc:description/>
  <dc:language>en-US</dc:language>
  <cp:lastModifiedBy>emily.johnson</cp:lastModifiedBy>
  <dcterms:modified xsi:type="dcterms:W3CDTF">2012-10-29T12:18:15Z</dcterms:modified>
  <cp:revision>8</cp:revision>
  <dc:subject/>
  <dc:title>Chapter 12: The Second War for Independence &amp; the Upsurge of Nationalism</dc:title>
</cp:coreProperties>
</file>